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jpeg" ContentType="image/jpeg"/>
  <Override PartName="/ppt/media/image3.png" ContentType="image/png"/>
  <Override PartName="/ppt/media/whoosh.wav" ContentType="audio/x-wav"/>
  <Override PartName="/ppt/media/image4.jpeg" ContentType="image/jpeg"/>
  <Override PartName="/ppt/media/ricochet.wav" ContentType="audio/x-wav"/>
  <Override PartName="/ppt/media/image5.jpeg" ContentType="image/jpeg"/>
  <Override PartName="/ppt/media/image6.jpeg" ContentType="image/jpeg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C252-4687-443C-A6C3-DA1FF44748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739-DD3D-407C-9998-84511297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02C-0371-44D4-88DA-DF970F6C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892-52A5-41A1-BFCC-FCEE3DBB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AFA-BFC6-4A10-94D7-84BE2D79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53A-CADE-4BB5-8393-F7A397F8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58B-09A8-4F6F-8335-D18EAF65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4B9-C468-480D-91DE-C6668853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A1A-4F38-4856-85F6-E0E0850D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038-C54B-4452-83D6-8902E775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51D-D370-429A-BCF3-25DEC2FB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72E-8535-4265-88EC-040D2640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A9B-C74E-4448-9937-E59DA8EA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6729-3A32-4F07-9813-5145883DD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fags"/>
          <p:cNvPicPr/>
          <p:nvPr/>
        </p:nvPicPr>
        <p:blipFill>
          <a:blip r:embed="rId1"/>
          <a:stretch/>
        </p:blipFill>
        <p:spPr>
          <a:xfrm>
            <a:off x="3200400" y="2286000"/>
            <a:ext cx="2362320" cy="1982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Tobacco sm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Smoking kill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2 times the number of people killed in road 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 contain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nicotin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which i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addi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Ta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black sticky substance that forms in the moist lu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ar contains 17 chemicals (</a:t>
            </a: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that are known to cause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rbon monoxid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poisonou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as that stops red blood cells from carrying oxygen around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rt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ers have more chance of a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heart attac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when the heart stops 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heart disease and smoking"/>
          <p:cNvPicPr/>
          <p:nvPr/>
        </p:nvPicPr>
        <p:blipFill>
          <a:blip r:embed="rId1"/>
          <a:stretch/>
        </p:blipFill>
        <p:spPr>
          <a:xfrm>
            <a:off x="4038480" y="1930320"/>
            <a:ext cx="4419720" cy="37036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lthy, clean lu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lean_lung_hr"/>
          <p:cNvPicPr/>
          <p:nvPr/>
        </p:nvPicPr>
        <p:blipFill>
          <a:blip r:embed="rId1"/>
          <a:stretch/>
        </p:blipFill>
        <p:spPr>
          <a:xfrm>
            <a:off x="4792680" y="1447920"/>
            <a:ext cx="3157560" cy="46479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Lung can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obacco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Lung cancer"/>
          <p:cNvPicPr/>
          <p:nvPr/>
        </p:nvPicPr>
        <p:blipFill>
          <a:blip r:embed="rId1"/>
          <a:stretch/>
        </p:blipFill>
        <p:spPr>
          <a:xfrm>
            <a:off x="762120" y="1752480"/>
            <a:ext cx="3519360" cy="4648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Emphys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emphysema lung"/>
          <p:cNvPicPr/>
          <p:nvPr/>
        </p:nvPicPr>
        <p:blipFill>
          <a:blip r:embed="rId1"/>
          <a:stretch/>
        </p:blipFill>
        <p:spPr>
          <a:xfrm>
            <a:off x="5010120" y="1447920"/>
            <a:ext cx="3295800" cy="46479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Times New Roman"/>
              </a:rPr>
              <a:t>Bronchit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air passages (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</a:rPr>
              <a:t>bronchi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lung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irritated by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se air passage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wolle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re are tiny hair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keep these air passages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ing damages thes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stops them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lungs fill up with mucu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the smoker now has to try and physically cough u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Times New Roman"/>
              </a:rPr>
              <a:t>Other problems caused by smok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20:12:00Z</dcterms:created>
  <dc:creator>LEGION2</dc:creator>
  <dc:description/>
  <dc:language>en-US</dc:language>
  <cp:lastModifiedBy>LEGION2</cp:lastModifiedBy>
  <dcterms:modified xsi:type="dcterms:W3CDTF">2016-01-14T12:46:34Z</dcterms:modified>
  <cp:revision>5</cp:revision>
  <dc:subject/>
  <dc:title>Tobacco and diseases</dc:title>
</cp:coreProperties>
</file>